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4C5C-B37C-4521-857D-EFE3735E8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03BE-5763-4BC5-A279-7FB213A21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52DC-6616-43CD-AA15-94DCBBAF7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1A53-31E4-432A-8178-4F246FC20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1EE7-D67C-444A-9617-58AC3F0AF6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8B04-A8DE-4C5D-B0DB-3A6E04D47D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8BA7-A0A5-4A35-98E6-0C28671EC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7390-947F-44DA-A510-7EF5FB2802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347C-1E87-4A46-A034-CDECD254B2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08D7-AD09-4E27-A385-00C4F751B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51D5-1B26-474F-95CB-F3D1FB11D1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E319-D8A8-4BB3-A4F2-299EB2C84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B47F-BF1D-471B-962D-DFFBB7316F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B232-C793-4661-A420-F2F5E232EB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636F-C4F6-4E85-A4B1-D341F55E17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37F6-252E-498D-99B3-118C55942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8FAB-1603-4D29-A2E4-72323E323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8ABA-EBF3-4BF6-931E-EB46BA5F6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0E3E-D632-4E33-8FBC-B00CC3CEF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1201-5A58-41AA-A7EE-125B245BF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3EDB-B187-478C-9793-0E71F74C1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B27C-BC7C-4146-AD30-0998CFBC8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0891-89B9-431D-97DE-56DECFB5A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2BF1-F3A2-41B1-8DAC-ACEEBCD77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38664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73280" indent="-38628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115992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1546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10080" y="9252000"/>
            <a:ext cx="3697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54297F-900E-4D11-92C6-6CEBA9E44312}" type="slidenum"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88760"/>
            <a:ext cx="1046484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518112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9000"/>
          </a:bodyPr>
          <a:p>
            <a:pPr marL="8424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16884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25308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33768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42228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42228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422280" indent="-842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35640" y="9296280"/>
            <a:ext cx="324000" cy="45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fr-FR" sz="1800" spc="-1" strike="noStrike">
                <a:solidFill>
                  <a:srgbClr val="3e231a"/>
                </a:solidFill>
                <a:latin typeface="Papyrus"/>
                <a:ea typeface="Papyru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0B4D64-E5C5-4FFD-AC11-36BAC239D8A6}" type="slidenum">
              <a:rPr b="0" lang="fr-FR" sz="1800" spc="-1" strike="noStrike">
                <a:solidFill>
                  <a:srgbClr val="3e231a"/>
                </a:solidFill>
                <a:latin typeface="Papyrus"/>
                <a:ea typeface="Papyru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hyperlink" Target="http://www.chd.lu/wps/PA_RoleEtendu/FTSByteServingServletImpl/?path=/export/exped/sexpdata/Mag/127/510/152069.pdf" TargetMode="External"/><Relationship Id="rId6" Type="http://schemas.openxmlformats.org/officeDocument/2006/relationships/hyperlink" Target="http://www.chd.lu/wps/PA_RoleEtendu/FTSByteServingServletImpl/?path=/export/exped/sexpdata/Mag/127/510/152069.pdf" TargetMode="Externa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" Target="slide4.xml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" Target="slide3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slide" Target="slide8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" Target="slide3.xml"/><Relationship Id="rId13" Type="http://schemas.openxmlformats.org/officeDocument/2006/relationships/slide" Target="slide4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7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" Target="slide10.xm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619200" y="524880"/>
            <a:ext cx="11764800" cy="311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5305" dir="2388334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f5d328"/>
                </a:solidFill>
                <a:latin typeface="Helvetica Light"/>
              </a:rPr>
              <a:t>asile au Luxembourg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Helvetica Light"/>
              </a:rPr>
              <a:t>procédure/ accueil des </a:t>
            </a:r>
            <a:endParaRPr b="0" lang="en-US" sz="4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Helvetica Light"/>
              </a:rPr>
              <a:t>demandeurs de protection internationale</a:t>
            </a:r>
            <a:endParaRPr b="0" lang="en-US" sz="4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Helvetica Light"/>
              </a:rPr>
              <a:t>(dpi) </a:t>
            </a:r>
            <a:r>
              <a:rPr b="0" lang="fr-FR" sz="2400" spc="-1" strike="noStrike">
                <a:solidFill>
                  <a:srgbClr val="ffffff"/>
                </a:solidFill>
                <a:latin typeface="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248360" y="6998760"/>
            <a:ext cx="4506480" cy="46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25305" dir="2388334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Helvetica Light"/>
              </a:rPr>
              <a:t>les 2 lois du 18 décembre 2015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0" name="Picture 3" descr="logo-asti.png"/>
          <p:cNvPicPr/>
          <p:nvPr/>
        </p:nvPicPr>
        <p:blipFill>
          <a:blip r:embed="rId4"/>
          <a:stretch/>
        </p:blipFill>
        <p:spPr>
          <a:xfrm>
            <a:off x="10439280" y="8217000"/>
            <a:ext cx="1879560" cy="93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1003320" y="700200"/>
            <a:ext cx="33163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Adresses util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008000" y="1866960"/>
            <a:ext cx="11677680" cy="68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365c0"/>
                </a:solidFill>
                <a:latin typeface="Helvetica Light"/>
              </a:rPr>
              <a:t>Direction de l’Immigrat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26, route d'Arlon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L-1140 Luxembourg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Tél. : (+352) 247-84040 (de 14h00 à 16h00)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Horaires d'ouverture : guichets informations : de 8h30 à 12h00 du lundi au vendredi ; enrôlement et délivrance des titres de séjour biométriques (uniquement sur convocation) : de 8h30 à 12h00 et de 13h00 à 16h00 du lundi au vendredi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365c0"/>
                </a:solidFill>
                <a:latin typeface="Helvetica Light"/>
              </a:rPr>
              <a:t>OLAI</a:t>
            </a: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Office luxembourgeois pour l’Accueil et l’Intégration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7-9 avenue Victor Hugo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L-1750 - Luxembourg  (Limpertsberg) Tél. : (+352) 247-8570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Heures d'ouverture de la réception de 9h00 à 12h00 et de 13h00 à 17h00.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882b"/>
                </a:solidFill>
                <a:latin typeface="Helvetica Light"/>
              </a:rPr>
              <a:t>ASTI</a:t>
            </a: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Association de Soutien aux Travailleurs Immigrés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12, rue Auguste Laval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L-1922 Luxembourg (Eich)  Tél. : (+352) 43 83 33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882b"/>
                </a:solidFill>
                <a:latin typeface="Helvetica Light"/>
              </a:rPr>
              <a:t>Carita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29, rue Michel Welter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L- Luxembourg (Gare) Tél. : (+352) 40 21 31 1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882b"/>
                </a:solidFill>
                <a:latin typeface="Helvetica Light"/>
              </a:rPr>
              <a:t>Croix Rouge</a:t>
            </a: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,</a:t>
            </a: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Foyer Lily Unden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162, avenue de la Faiencerie,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L-1511 Luxembourg  (Limpertsberg)Tél. : (+352) 27 55 54 20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696600" y="4944240"/>
            <a:ext cx="22366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Plan</a:t>
            </a: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Capture d’écran 2016-01-14 à 10.57.02.jpg"/>
          <p:cNvPicPr/>
          <p:nvPr/>
        </p:nvPicPr>
        <p:blipFill>
          <a:blip r:embed="rId2"/>
          <a:stretch/>
        </p:blipFill>
        <p:spPr>
          <a:xfrm>
            <a:off x="2292480" y="390600"/>
            <a:ext cx="8418240" cy="8970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654120" y="2657520"/>
            <a:ext cx="1647720" cy="94932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365c0"/>
                </a:solidFill>
                <a:latin typeface="Helvetica Light"/>
              </a:rPr>
              <a:t>OLAI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7-9 av V Hugo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081160" y="3132000"/>
            <a:ext cx="41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42960" y="3927600"/>
            <a:ext cx="2490840" cy="11476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365c0"/>
                </a:solidFill>
                <a:latin typeface="Helvetica Light"/>
              </a:rPr>
              <a:t>Direction de l’immigration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24, route d’Arlon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030480" y="4502160"/>
            <a:ext cx="2036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0704600" y="379440"/>
            <a:ext cx="1622160" cy="9478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0882b"/>
                </a:solidFill>
                <a:latin typeface="Helvetica Light"/>
              </a:rPr>
              <a:t>ASTI</a:t>
            </a:r>
            <a:r>
              <a:rPr b="0" lang="fr-FR" sz="24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12, rue A. Laval</a:t>
            </a:r>
            <a:r>
              <a:rPr b="0" lang="fr-FR" sz="24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Line 7"/>
          <p:cNvSpPr/>
          <p:nvPr/>
        </p:nvSpPr>
        <p:spPr>
          <a:xfrm flipH="1">
            <a:off x="7455960" y="735120"/>
            <a:ext cx="347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9445680" y="1668600"/>
            <a:ext cx="2960640" cy="94932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0882b"/>
                </a:solidFill>
                <a:latin typeface="Helvetica Light"/>
              </a:rPr>
              <a:t>Croix Rouge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162</a:t>
            </a:r>
            <a:r>
              <a:rPr b="0" lang="fr-FR" sz="24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avenue de la Faïencerie</a:t>
            </a:r>
            <a:r>
              <a:rPr b="0" lang="fr-FR" sz="24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4287960" y="2143080"/>
            <a:ext cx="542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0318680" y="6627960"/>
            <a:ext cx="2035080" cy="94932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0882b"/>
                </a:solidFill>
                <a:latin typeface="Helvetica Light"/>
              </a:rPr>
              <a:t>Caritas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Light"/>
              </a:rPr>
              <a:t>29, rue M Welter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5" name="Line 11"/>
          <p:cNvSpPr/>
          <p:nvPr/>
        </p:nvSpPr>
        <p:spPr>
          <a:xfrm flipH="1">
            <a:off x="6465960" y="7102440"/>
            <a:ext cx="410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a255.pdf"/>
          <p:cNvPicPr/>
          <p:nvPr/>
        </p:nvPicPr>
        <p:blipFill>
          <a:blip r:embed="rId1"/>
          <a:srcRect l="0" t="368" r="0" b="0"/>
          <a:stretch/>
        </p:blipFill>
        <p:spPr>
          <a:xfrm>
            <a:off x="1604880" y="336600"/>
            <a:ext cx="8832960" cy="124426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4307760" y="4551480"/>
            <a:ext cx="3651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 u="sng">
                <a:solidFill>
                  <a:srgbClr val="b26ae2"/>
                </a:solidFill>
                <a:uFillTx/>
                <a:latin typeface="Helvetica Light"/>
              </a:rPr>
              <a:t>Les textes de loi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3876480" y="697320"/>
            <a:ext cx="5250240" cy="21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5305" dir="2388334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f5d328"/>
                </a:solidFill>
                <a:latin typeface="Helvetica Light"/>
              </a:rPr>
              <a:t>asile au Luxembourg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ffffff"/>
                </a:solidFill>
                <a:latin typeface="Helvetica Light"/>
              </a:rPr>
              <a:t>procédure/accueil</a:t>
            </a:r>
            <a:endParaRPr b="0" lang="en-US" sz="4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Helvetica Light"/>
              </a:rPr>
              <a:t>des demandeurs de protection internationale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Helvetica Light"/>
              </a:rPr>
              <a:t>(dpi) 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430280" y="7564680"/>
            <a:ext cx="51786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 u="sng">
                <a:solidFill>
                  <a:srgbClr val="0000ff"/>
                </a:solidFill>
                <a:uFillTx/>
                <a:latin typeface="Helvetica Light"/>
                <a:hlinkClick r:id="rId3" action="ppaction://hlinksldjump"/>
              </a:rPr>
              <a:t>AOT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 u="sng">
                <a:solidFill>
                  <a:srgbClr val="0000ff"/>
                </a:solidFill>
                <a:uFillTx/>
                <a:latin typeface="Helvetica Light"/>
                <a:hlinkClick r:id="rId4" action="ppaction://hlinksldjump"/>
              </a:rPr>
              <a:t>Adresses utile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 u="sng">
                <a:solidFill>
                  <a:srgbClr val="0000ff"/>
                </a:solidFill>
                <a:uFillTx/>
                <a:latin typeface="Helvetica Light"/>
                <a:hlinkClick r:id="rId5"/>
              </a:rPr>
              <a:t>Texte des 2 lois du 18 décembre 2015  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10760" y="3077640"/>
            <a:ext cx="7120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Light"/>
              </a:rPr>
              <a:t>présentation schématique, seuls les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Helvetica Light"/>
                <a:hlinkClick r:id="rId6"/>
              </a:rPr>
              <a:t>textes des lois</a:t>
            </a:r>
            <a:r>
              <a:rPr b="0" lang="fr-FR" sz="2000" spc="-1" strike="noStrike">
                <a:solidFill>
                  <a:srgbClr val="000000"/>
                </a:solidFill>
                <a:latin typeface="Helvetica Light"/>
              </a:rPr>
              <a:t> font foi 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99360" y="3832560"/>
            <a:ext cx="57668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Helvetica Light"/>
                <a:hlinkClick r:id="rId7" action="ppaction://hlinksldjump"/>
              </a:rPr>
              <a:t>arrivée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Helvetica Light"/>
                <a:hlinkClick r:id="rId8" action="ppaction://hlinksldjump"/>
              </a:rPr>
              <a:t>examen de la demande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Helvetica Light"/>
                <a:hlinkClick r:id="rId9" action="ppaction://hlinksldjump"/>
              </a:rPr>
              <a:t>procédure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Helvetica Light"/>
                <a:hlinkClick r:id="rId10" action="ppaction://hlinksldjump"/>
              </a:rPr>
              <a:t>accueil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Helvetica Light"/>
                <a:hlinkClick r:id="rId11" action="ppaction://hlinksldjump"/>
              </a:rPr>
              <a:t>mineur non-accompagné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Helvetica Light"/>
                <a:hlinkClick r:id="rId12" action="ppaction://hlinksldjump"/>
              </a:rPr>
              <a:t>décis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busEvo01.jpg"/>
          <p:cNvPicPr/>
          <p:nvPr/>
        </p:nvPicPr>
        <p:blipFill>
          <a:blip r:embed="rId1"/>
          <a:stretch/>
        </p:blipFill>
        <p:spPr>
          <a:xfrm>
            <a:off x="-444600" y="-473040"/>
            <a:ext cx="13893840" cy="10420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2303640" y="2310480"/>
            <a:ext cx="884520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231840" indent="-231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’adresse à la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Direction de l’Immigration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du Ministère des Affaires Etrangères et de l’Immigration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es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empreintes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ont prises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on vérifie s’il étai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déjà dans un autre Etat membre,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s’il provient d’un pays tiers sûr, s’il est citoyen d’un autre Etat de l’UE:  dans ces cas sera irrecevable il y sera renvoyé dans cet Etat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i la demande es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recevabl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le dpi recevra une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attestation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établie par le Ministère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31840" indent="-231840"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dans les 8 jours le dpi doit s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’inscrire dans sa commun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de résidence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24960" y="715680"/>
            <a:ext cx="107247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ffffff"/>
                </a:solidFill>
                <a:latin typeface="Helvetica Light"/>
              </a:rPr>
              <a:t>arriv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1" action="ppaction://hlinksldjump"/>
              </a:rPr>
              <a:t>examen de la demand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procédure, accueil, mineur non accompagné, issue 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579040" y="2197080"/>
            <a:ext cx="91990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à l’arrivée au Luxembourg, le demandeur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025800" y="7929720"/>
            <a:ext cx="5554800" cy="1190520"/>
          </a:xfrm>
          <a:prstGeom prst="wedgeEllipseCallout">
            <a:avLst>
              <a:gd name="adj1" fmla="val -69953"/>
              <a:gd name="adj2" fmla="val -22708"/>
            </a:avLst>
          </a:prstGeom>
          <a:solidFill>
            <a:srgbClr val="f5d328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Rectangle 6">
            <a:hlinkClick r:id="rId12" action="ppaction://hlinksldjump"/>
          </p:cNvPr>
          <p:cNvSpPr/>
          <p:nvPr/>
        </p:nvSpPr>
        <p:spPr>
          <a:xfrm>
            <a:off x="3513600" y="8138880"/>
            <a:ext cx="49456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halkboard"/>
                <a:ea typeface="Chalkboard"/>
              </a:rPr>
              <a:t>« Comme mineur non - accompagné 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halkboard"/>
                <a:ea typeface="Chalkboard"/>
              </a:rPr>
              <a:t>j’ai droit à quelques égards »  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3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93" name="Picture 3" descr="busEvo0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858960" y="2179080"/>
            <a:ext cx="1155204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227160" indent="-22716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es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examin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par la Direction de l’Immigration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le dpi pourra se faire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assister d’un avocat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de son choix payé par l’Êtat lors de l’entretien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Light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Helvetica Light"/>
              </a:rPr>
              <a:t>"sauf si le recours du demandeur est considéré comme n'ayant pas de perspectives tangibles de succès"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un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interprèt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du même sexe est fourni par la Direction de l’Immigration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Clr>
                <a:srgbClr val="000000"/>
              </a:buClr>
              <a:buSzPct val="4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un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rapport sera établi de l’entretien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un enregistrement audio pourra être fait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d’éventuels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besoins spécifiques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seront pris en charge par l’OLAI (maladie, âge, etc)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Clr>
                <a:srgbClr val="000000"/>
              </a:buClr>
              <a:buSzPct val="4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Helvetica Light"/>
              </a:rPr>
              <a:t>si le dpi vient d’un </a:t>
            </a:r>
            <a:r>
              <a:rPr b="1" i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pays d’origine sûr</a:t>
            </a:r>
            <a:r>
              <a:rPr b="0" i="1" lang="fr-FR" sz="21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1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Helvetica Light"/>
              </a:rPr>
              <a:t>s’il induit les autorités en erreur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27160" indent="-227160">
              <a:buSzPct val="100000"/>
              <a:buBlip>
                <a:blip r:embed="rId1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Helvetica Light"/>
              </a:rPr>
              <a:t>s’il avance des éléments sans pertinence                                                                               une </a:t>
            </a:r>
            <a:r>
              <a:rPr b="1" i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procédure accélérée </a:t>
            </a:r>
            <a:r>
              <a:rPr b="0" i="1" lang="fr-FR" sz="2100" spc="-1" strike="noStrike">
                <a:solidFill>
                  <a:srgbClr val="000000"/>
                </a:solidFill>
                <a:latin typeface="Helvetica Light"/>
              </a:rPr>
              <a:t>est prévue, avec une réponse dans 2 mois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24960" y="715680"/>
            <a:ext cx="107247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3" action="ppaction://hlinksldjump"/>
              </a:rPr>
              <a:t>arriv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>
                <a:solidFill>
                  <a:srgbClr val="ffffff"/>
                </a:solidFill>
                <a:latin typeface="Helvetica Light"/>
              </a:rPr>
              <a:t>examen de la demand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4" action="ppaction://hlinksldjump"/>
              </a:rPr>
              <a:t>procédur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5" action="ppaction://hlinksldjump"/>
              </a:rPr>
              <a:t>accueil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6" action="ppaction://hlinksldjump"/>
              </a:rPr>
              <a:t>mineur non accompagné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7" action="ppaction://hlinksldjump"/>
              </a:rPr>
              <a:t>issu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083960" y="1713240"/>
            <a:ext cx="73717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La demande de protection du dpi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6254640" y="7650000"/>
            <a:ext cx="5316480" cy="1859040"/>
          </a:xfrm>
          <a:prstGeom prst="wedgeEllipseCallout">
            <a:avLst>
              <a:gd name="adj1" fmla="val -93226"/>
              <a:gd name="adj2" fmla="val -30217"/>
            </a:avLst>
          </a:prstGeom>
          <a:solidFill>
            <a:srgbClr val="f5d328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910200" y="8025840"/>
            <a:ext cx="40280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halkboard"/>
                <a:ea typeface="Chalkboard"/>
              </a:rPr>
              <a:t>« Qu’est-ce qui m’attends: 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halkboard"/>
                <a:ea typeface="Chalkboard"/>
              </a:rPr>
              <a:t>statut, protection subsidiaire, 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halkboard"/>
                <a:ea typeface="Chalkboard"/>
              </a:rPr>
              <a:t>procédure accélérée? »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3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01" name="Picture 3" descr="busEvo0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795240" y="2260080"/>
            <a:ext cx="1141272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276120" indent="-276120"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il recevra une réponse dans les 6 mois  (davantage selon l’art 26.2)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i cette décision es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positiv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il obtiendra le,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statut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de réfugié ou de protection subsidiaire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i cette décision es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négative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elle sera accompagnée d’un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 ordre de quitter 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le Luxembourg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le dpi  pourra faire au plus tard 1 mois après la décision un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recours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contre cette décision auprès du tribunal administratif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76120" indent="-276120">
              <a:buSzPct val="100000"/>
              <a:buBlip>
                <a:blip r:embed="rId1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si le tribunal administratif confirme la décision négative, le dpi pourra faire appel de ce jugement auprès de la Cour administrative.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-867960" y="7555680"/>
            <a:ext cx="5296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Dans le cadre d’une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procédure accélér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le recours doit se faire dans les 15 jours,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la décision sera prise dans un mois.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24960" y="715680"/>
            <a:ext cx="107247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2" action="ppaction://hlinksldjump"/>
              </a:rPr>
              <a:t>arriv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3" action="ppaction://hlinksldjump"/>
              </a:rPr>
              <a:t>examen de la demand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>
                <a:solidFill>
                  <a:srgbClr val="ffffff"/>
                </a:solidFill>
                <a:latin typeface="Helvetica Light"/>
              </a:rPr>
              <a:t>procédur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4" action="ppaction://hlinksldjump"/>
              </a:rPr>
              <a:t>accueil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5" action="ppaction://hlinksldjump"/>
              </a:rPr>
              <a:t>mineur non accompagné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6" action="ppaction://hlinksldjump"/>
              </a:rPr>
              <a:t>issu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010160" y="1905120"/>
            <a:ext cx="75574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Si la demande du dpi est recevabl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194600" y="7174080"/>
            <a:ext cx="4897440" cy="1522080"/>
          </a:xfrm>
          <a:prstGeom prst="wedgeEllipseCallout">
            <a:avLst>
              <a:gd name="adj1" fmla="val -79518"/>
              <a:gd name="adj2" fmla="val -10861"/>
            </a:avLst>
          </a:prstGeom>
          <a:solidFill>
            <a:srgbClr val="f5d328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540200" y="7605360"/>
            <a:ext cx="4188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  <a:ea typeface="Chalkboard"/>
              </a:rPr>
              <a:t>« Surtout ne pas rater les délais! « 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3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0" name="Picture 3" descr="busEvo04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96720" y="2357640"/>
            <a:ext cx="1220976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260280" indent="-260280" algn="ctr"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 algn="ctr"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le dpi se voit attribué un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logement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par OLAI,</a:t>
            </a:r>
            <a:r>
              <a:rPr b="0" lang="fr-FR" sz="1500" spc="-1" strike="noStrike">
                <a:solidFill>
                  <a:srgbClr val="000000"/>
                </a:solidFill>
                <a:latin typeface="Helvetica Light"/>
              </a:rPr>
              <a:t>la loi reste muette sur la possibilité du dpi de se loger chez des particuliers.    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il es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nourri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sur place, si la nourriture n’est pas fournie le dpi recevra 225,63 € par mois par adulte et 187,81 € par mineur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chaque dpi reçoit un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argent de poch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de 26,63 € par mois par adulte et 12,81 € par mineur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10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dans les 15 premiers jours l’OLAI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informe le dpi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sur ses droits et devoirs, dont accès à la Sécurité Sociale, il pourra fréquenter des cours de langue à tarif préférentiel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1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1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le dpi doit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se présenter une fois par mois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à la Direction de l’Immigration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1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buSzPct val="100000"/>
              <a:buBlip>
                <a:blip r:embed="rId1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les dpi peuvent former un comité dans chaque lieu d’hébergement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260280" indent="-2602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24960" y="715680"/>
            <a:ext cx="107247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5" action="ppaction://hlinksldjump"/>
              </a:rPr>
              <a:t>arriv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6" action="ppaction://hlinksldjump"/>
              </a:rPr>
              <a:t>examen de la demand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7" action="ppaction://hlinksldjump"/>
              </a:rPr>
              <a:t>procédur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>
                <a:solidFill>
                  <a:srgbClr val="ffffff"/>
                </a:solidFill>
                <a:latin typeface="Helvetica Light"/>
              </a:rPr>
              <a:t>accueil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8" action="ppaction://hlinksldjump"/>
              </a:rPr>
              <a:t>mineur non accompagné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19" action="ppaction://hlinksldjump"/>
              </a:rPr>
              <a:t>issu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268280" y="8071200"/>
            <a:ext cx="4795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Helvetica Light"/>
              </a:rPr>
              <a:t>Après 6 mois de procédure le dpi peut travailler sous forme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20" action="ppaction://hlinksldjump"/>
              </a:rPr>
              <a:t>d’AOT Autorisation d’Occupation Temporaire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248120" y="1707480"/>
            <a:ext cx="109011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Accueil et suivi social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Light"/>
              </a:rPr>
              <a:t>compétence de l’Office Luxembourgeois pour l’Accueil et l’Intégration OLAI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Light"/>
              </a:rPr>
              <a:t>du Ministère de la Famill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7167600" y="7343640"/>
            <a:ext cx="5799240" cy="1714680"/>
          </a:xfrm>
          <a:prstGeom prst="pie">
            <a:avLst/>
          </a:prstGeom>
          <a:solidFill>
            <a:srgbClr val="f5d328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Rectangle 9">
            <a:hlinkClick r:id="rId21" action="ppaction://hlinksldjump"/>
          </p:cNvPr>
          <p:cNvSpPr/>
          <p:nvPr/>
        </p:nvSpPr>
        <p:spPr>
          <a:xfrm>
            <a:off x="9390600" y="7669800"/>
            <a:ext cx="33850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halkboard"/>
                <a:ea typeface="Chalkboard"/>
              </a:rPr>
              <a:t>«  Je peux m’adresser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halkboard"/>
                <a:ea typeface="Chalkboard"/>
              </a:rPr>
              <a:t>à des organisations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halkboard"/>
                <a:ea typeface="Chalkboard"/>
              </a:rPr>
              <a:t>non - gouvernementales »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3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9" name="Picture 3" descr="busEvo05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624960" y="715680"/>
            <a:ext cx="107247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2" action="ppaction://hlinksldjump"/>
              </a:rPr>
              <a:t>arriv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3" action="ppaction://hlinksldjump"/>
              </a:rPr>
              <a:t>examen de la demand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ff"/>
                </a:solidFill>
                <a:uFillTx/>
                <a:latin typeface="Helvetica Light"/>
                <a:hlinkClick r:id="rId4" action="ppaction://hlinksldjump"/>
              </a:rPr>
              <a:t>procédur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accueil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>
                <a:solidFill>
                  <a:srgbClr val="ffffff"/>
                </a:solidFill>
                <a:latin typeface="Helvetica Light"/>
              </a:rPr>
              <a:t>mineur non accompagné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issu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91640" y="1932120"/>
            <a:ext cx="5882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mineur non - accompagné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52560" y="3898080"/>
            <a:ext cx="874548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° sa demande est traitée par un agent possédant les connaissances nécessaires sur les besoins particuliers des mineurs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° pour garantir l’intérêt supérieur de l’enfant, le mineur non accompagné se voit désigner, dès que possible un représentant légal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° L’intérêt supérieur de l’enfant constitue une considération primordiale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° est logé dans des lieux d’hébergement adaptés aux mineurs,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° a accès au système scolaire luxembourgeois 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152000" y="3025080"/>
            <a:ext cx="789588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 un mineur qui entre sur le territoire sans être accompagné d’un adulte qui est responsable de lui 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 le droit en vigueur au Grand-Duché de Luxembourg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0174320" y="6593040"/>
            <a:ext cx="2724120" cy="1511280"/>
          </a:xfrm>
          <a:prstGeom prst="wedgeEllipseCallout">
            <a:avLst>
              <a:gd name="adj1" fmla="val -79231"/>
              <a:gd name="adj2" fmla="val 9601"/>
            </a:avLst>
          </a:prstGeom>
          <a:solidFill>
            <a:srgbClr val="f5d328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173600" y="6764760"/>
            <a:ext cx="267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Chalkboard"/>
              </a:rPr>
              <a:t>« Comme mineur 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Chalkboard"/>
              </a:rPr>
              <a:t>non - accompagné 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Chalkboard"/>
              </a:rPr>
              <a:t>j’ai droit à quelques égards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halkboard"/>
                <a:ea typeface="Chalkboard"/>
              </a:rPr>
              <a:t>particuliers »  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fr-FR" sz="3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8" name="Picture 3" descr="busEvo06.jpg"/>
          <p:cNvPicPr/>
          <p:nvPr/>
        </p:nvPicPr>
        <p:blipFill>
          <a:blip r:embed="rId1"/>
          <a:srcRect l="0" t="1219" r="652" b="0"/>
          <a:stretch/>
        </p:blipFill>
        <p:spPr>
          <a:xfrm>
            <a:off x="0" y="-49320"/>
            <a:ext cx="12918960" cy="963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9" name="Rectangle 4"/>
          <p:cNvSpPr/>
          <p:nvPr/>
        </p:nvSpPr>
        <p:spPr>
          <a:xfrm>
            <a:off x="624960" y="736920"/>
            <a:ext cx="107247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arrivé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examen de la demand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procédur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accueil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Helvetica Light"/>
              </a:rPr>
              <a:t>mineur non accompagné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0" lang="fr-FR" sz="2100" spc="-1" strike="noStrike">
                <a:solidFill>
                  <a:srgbClr val="ffffff"/>
                </a:solidFill>
                <a:latin typeface="Helvetica Light"/>
              </a:rPr>
              <a:t>issue</a:t>
            </a:r>
            <a:r>
              <a:rPr b="0" lang="fr-FR" sz="2100" spc="-1" strike="noStrike">
                <a:solidFill>
                  <a:srgbClr val="000000"/>
                </a:solidFill>
                <a:latin typeface="Helvetica Light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93400" y="2138400"/>
            <a:ext cx="3898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décision positiv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65200" y="2959200"/>
            <a:ext cx="4865760" cy="38512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265720" y="2138400"/>
            <a:ext cx="41986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décision négative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33240" y="3030120"/>
            <a:ext cx="472932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Light"/>
              </a:rPr>
              <a:t>le dpi obtient le statut de réfugié,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respectivement de la protection subsidiaire 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° le réfugié obtient un passeport,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° il a le droit de travailler,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° il a le droit d’accès à la sécurité sociale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y compris le cas échéant le RMG. 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773680" y="2951280"/>
            <a:ext cx="6205680" cy="3849480"/>
          </a:xfrm>
          <a:prstGeom prst="rect">
            <a:avLst/>
          </a:prstGeom>
          <a:solidFill>
            <a:srgbClr val="a6aaa9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896080" y="3049920"/>
            <a:ext cx="59608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Light"/>
              </a:rPr>
              <a:t>protection définitivement refusée</a:t>
            </a:r>
            <a:endParaRPr b="0" lang="en-US" sz="23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Light"/>
              </a:rPr>
              <a:t>y compris l’ordre de quitter le pays</a:t>
            </a:r>
            <a:endParaRPr b="0" lang="en-US" sz="23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° tous les recours sont épuisés,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° une offre de retour « volontaire »est faite, éventuellement avec une aide au retour,  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° en cas de refus de retour volontaire, un retour forcé sera organisé,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° le retour forcé pourra être accompagnée 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Light"/>
              </a:rPr>
              <a:t>d’une interdiction d’entrée dans l’UE de 5 ans. 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2428920" y="7361280"/>
            <a:ext cx="4400640" cy="1520640"/>
          </a:xfrm>
          <a:prstGeom prst="wedgeEllipseCallout">
            <a:avLst>
              <a:gd name="adj1" fmla="val 150347"/>
              <a:gd name="adj2" fmla="val -67620"/>
            </a:avLst>
          </a:prstGeom>
          <a:solidFill>
            <a:srgbClr val="f5d328"/>
          </a:solid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704320" y="7781400"/>
            <a:ext cx="3785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Light"/>
              </a:rPr>
              <a:t>«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 En cas de retour forcé, 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je risque le Centre de Rétention »</a:t>
            </a:r>
            <a:r>
              <a:rPr b="0" lang="fr-FR" sz="1800" spc="-1" strike="noStrike">
                <a:solidFill>
                  <a:srgbClr val="000000"/>
                </a:solidFill>
                <a:latin typeface="Helvetica 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00360" y="963720"/>
            <a:ext cx="95709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Helvetica Light"/>
              </a:rPr>
              <a:t>AOT: Autorisation d’Occupation Temporair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041480" y="2324160"/>
            <a:ext cx="9288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166680" indent="-166680">
              <a:buClr>
                <a:srgbClr val="000000"/>
              </a:buClr>
              <a:buSzPct val="75000"/>
              <a:buFont typeface="Helvetica Light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elvetica Light"/>
              </a:rPr>
              <a:t>accès à une AOT  6 mois après le dépôt de sa demande de protection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buClr>
                <a:srgbClr val="000000"/>
              </a:buClr>
              <a:buSzPct val="75000"/>
              <a:buFont typeface="Helvetica Light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elvetica Light"/>
              </a:rPr>
              <a:t>pour l’emploi concerné aucun résident « légal » n’est disponible,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buClr>
                <a:srgbClr val="000000"/>
              </a:buClr>
              <a:buSzPct val="75000"/>
              <a:buFont typeface="Helvetica Light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elvetica Light"/>
              </a:rPr>
              <a:t>l’AOT vaut pour 1 employeur, 1 profession et une durée de 6 mois,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buClr>
                <a:srgbClr val="000000"/>
              </a:buClr>
              <a:buSzPct val="75000"/>
              <a:buFont typeface="Helvetica Light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elvetica Light"/>
              </a:rPr>
              <a:t>l’AOT prend automatiquement fin au moment du refus définitif de la demande de protection internationale, 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  <a:p>
            <a:pPr marL="166680" indent="-166680">
              <a:buClr>
                <a:srgbClr val="000000"/>
              </a:buClr>
              <a:buSzPct val="75000"/>
              <a:buFont typeface="Helvetica Light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Helvetica Light"/>
              </a:rPr>
              <a:t>l’AOT ne donne pas droit à un titre de séjour.</a:t>
            </a:r>
            <a:endParaRPr b="0" lang="en-US" sz="2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165320" y="6610320"/>
            <a:ext cx="8899560" cy="176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556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662840" y="6655320"/>
            <a:ext cx="8045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Opinion: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Le principe de l’accès à un job est dans le texte ,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halkboard"/>
                <a:ea typeface="Chalkboard"/>
              </a:rPr>
              <a:t>en pratique, il relève de la course d’obstacle !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 kollwelter</cp:lastModifiedBy>
  <dcterms:modified xsi:type="dcterms:W3CDTF">2016-01-27T15:42:14Z</dcterms:modified>
  <cp:revision>1</cp:revision>
  <dc:subject/>
  <dc:title>Diapositive 1</dc:title>
</cp:coreProperties>
</file>